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2194-1F9F-4A9E-83A7-49B8C6047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385B-FC30-45B6-97A7-CDCAD1B80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7F2C-A214-4D45-A64B-DF91A3E9A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EE9C-B61F-4CFC-A364-CE1719086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D1FA2-F81D-4E3B-82EB-C368FE522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3C3BC-95D5-45F6-B6FF-D3AD148D0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5A6D3-3605-465C-9D35-F96DD2234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2A2EC-CF47-4494-A60B-C33561098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138ED-70F3-4472-A0E5-D8834F564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43523-27E6-4798-85A7-1C821DCCF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0F42C-5572-4F12-BBB7-B5DD97CA5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37ED-9692-40CD-918C-297E748C9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0D2A8-99D0-4AEF-BF13-3B499DE34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634A4-157C-4FA1-A721-3FD22596F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9C02F-913B-49FE-B1EA-FF1B0CE65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74C8C-B353-44E5-A7F5-41225A92F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1B364-84D9-4A23-B46C-93059F085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DEAB-01CD-4FF1-93B1-6876E9ADB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302D-1C24-4E9B-9D1F-7164FD392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8904-A171-4149-8252-9B3961388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1781-5429-4512-9278-289F842C7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4A83-937B-46B4-8D8A-248EC7D0E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FBFA-2883-4332-AAD1-1F81F8724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0CD2-692F-493A-B86B-FFDA6E68F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D0521-74C0-4977-A14D-2A2785ABE1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43D5F-0F01-411E-8283-C5BF035FE9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CAB45-E64C-412B-9D94-589EFC5BB9FB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16CC-18CE-4B6C-9126-1CD2BCBE597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D5F3-7BCE-4A20-A47E-D07F2EC6E70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BF07-A4ED-4EDA-80C2-3DCF73EE182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9BE2-D1E4-4815-AB82-03493931B41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5817-68C7-4267-8CB7-6200E7F2122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1026-9A34-4852-AD55-6287B909C21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3B10-8880-4192-9B84-A5DDDD58E08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261F-662D-4190-8ADD-C40E8053142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7E2E-8BE1-448B-80CE-610A4D4D91E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F6E6-92D0-466C-A884-2F496871B2C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C526-169E-4235-89DA-23F8DD19A99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5:52:21Z</dcterms:modified>
  <cp:revision>2</cp:revision>
  <dc:subject/>
  <dc:title>The R genetics package: tools for using genetic data in statistical  models</dc:title>
</cp:coreProperties>
</file>