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6640764"/>
        <c:axId val="59025891"/>
      </c:barChart>
      <c:catAx>
        <c:axId val="5664076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025891"/>
        <c:crosses val="autoZero"/>
        <c:auto val="1"/>
        <c:lblAlgn val="ctr"/>
        <c:lblOffset val="100"/>
        <c:noMultiLvlLbl val="0"/>
      </c:catAx>
      <c:valAx>
        <c:axId val="5902589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64076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CE96D-81BE-48FD-80B7-CE2F25592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16A15-8142-4A7B-9C8F-03B456E5F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183A7-1641-46F6-9115-D543F54D6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7ACFB-85BA-48E3-9464-4BB06E7AD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784D9-8594-440B-AC53-F70ECE01F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EC3E3-57BC-4951-A13A-0623FB09B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64CEB-DB2A-4415-82C5-6F32775F1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06113-C769-4985-B93D-1673F5677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6336C-B231-4397-ACA1-EB48881AB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E8CC1-9770-4870-8699-DC3D348C3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8C157-FC11-4374-895B-755C0AB08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EEABF-380C-4E92-82E8-41B4BD256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14DA9E-C2BE-4045-B0B5-3EBE5054FD1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