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4613"/>
        <c:axId val="713725"/>
      </c:barChart>
      <c:catAx>
        <c:axId val="6384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725"/>
        <c:crosses val="autoZero"/>
        <c:auto val="1"/>
        <c:lblAlgn val="ctr"/>
        <c:lblOffset val="100"/>
        <c:noMultiLvlLbl val="0"/>
      </c:catAx>
      <c:valAx>
        <c:axId val="713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4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B7D-515D-46DE-9470-AFF2B59B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C73-A224-4671-B067-99FF30FF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250-502E-4DED-96C4-62F01CD8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00E-60BF-43D2-9C7A-FAFB561B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1AE2-3A57-48AC-B0AE-C9916D8B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49B-A57F-45C8-8A72-0A3B03C3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5FA-9499-4C66-BB7E-3A9D7B59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D72-10B5-4D46-8448-EB1E579D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FBE-3792-4441-9D25-619603B4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56A-4C52-483D-B2DC-2DB9BCF0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E94-739B-44D3-B00C-71D0E4E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687-2441-4F46-A1C4-138DC6EC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70542-A1E0-4E37-B2FC-FDF87998E8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