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35824"/>
        <c:axId val="77925274"/>
      </c:barChart>
      <c:catAx>
        <c:axId val="92635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5274"/>
        <c:crosses val="autoZero"/>
        <c:auto val="1"/>
        <c:lblAlgn val="ctr"/>
        <c:lblOffset val="100"/>
        <c:noMultiLvlLbl val="0"/>
      </c:catAx>
      <c:valAx>
        <c:axId val="77925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35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204-C117-4732-8357-5311462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8FD-7A71-4232-BEFD-9418780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469-F22F-47B8-AC23-2539B140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2FF-4F14-4459-94A6-EA2EFE1B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7D2-09AA-4577-8574-7775CB91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A40-8A70-483D-B410-7DD9D82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E69-318D-4E42-BF35-D33322B8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93E-6407-47BD-838D-ABA098FA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01E-3243-43E1-868E-79BD6FF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6B5-BF88-49C8-9858-0442357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6C5-9B59-4626-92E2-734A0A54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603-4ED9-4DDA-8581-A5B6C8C9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65D47-A5F7-4D7F-9493-08C4B6312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