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41328"/>
        <c:axId val="92657505"/>
      </c:barChart>
      <c:catAx>
        <c:axId val="11241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57505"/>
        <c:crosses val="autoZero"/>
        <c:auto val="1"/>
        <c:lblAlgn val="ctr"/>
        <c:lblOffset val="100"/>
        <c:noMultiLvlLbl val="0"/>
      </c:catAx>
      <c:valAx>
        <c:axId val="92657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1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374-F46C-46E1-81AF-BCEF8AE9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41E-6CCB-4541-B3A8-87C06D4B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DA2-DE5A-4B0F-BEE7-7467FA0D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085-7165-4FAE-A939-114E34F9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DB1-79CF-4AF9-A9E5-799EC5D8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3F4-3EA6-4B04-B9E0-7B90C8C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AAD-ECFB-4F41-9B25-82C7159B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1A1-6CC6-4B52-BEE9-42A25E4D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B60-99DE-44E7-B6A9-B2CAF301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6BA-3827-45A5-9E9B-BD519398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DF8-8D2C-43D5-A383-43ADE5E1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7A7-B300-48A3-B332-2EF660A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35142-A12E-4015-A226-BAAB6C4577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