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83113"/>
        <c:axId val="52863322"/>
      </c:barChart>
      <c:catAx>
        <c:axId val="65883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63322"/>
        <c:crosses val="autoZero"/>
        <c:auto val="1"/>
        <c:lblAlgn val="ctr"/>
        <c:lblOffset val="100"/>
        <c:noMultiLvlLbl val="0"/>
      </c:catAx>
      <c:valAx>
        <c:axId val="52863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83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C8A-C047-4879-9DE8-B77D3379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C50-765F-4108-AB78-4A2C572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CEE-65AB-4715-A384-335D7EF6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EA5-1334-4964-B3AB-12D48615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651-DC9E-420C-9F12-81C93294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67C-F2AB-4B87-A654-699387EB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B9D-3312-4027-AB9E-BA33A0DD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C0F-3F9D-4C5F-A922-E21CC61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537-D3F7-4E6D-BA47-D5756B4C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B3D-A5C8-4307-8FDF-0C6BBD4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F0C-E8D1-4E23-A744-03039D9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3E7-CC33-4239-8B44-65E59CB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9F5B9-1192-46E6-8D50-CD7ECAC52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