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142720"/>
        <c:axId val="89943943"/>
      </c:barChart>
      <c:catAx>
        <c:axId val="721427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943943"/>
        <c:crosses val="autoZero"/>
        <c:auto val="1"/>
        <c:lblAlgn val="ctr"/>
        <c:lblOffset val="100"/>
        <c:noMultiLvlLbl val="0"/>
      </c:catAx>
      <c:valAx>
        <c:axId val="899439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1427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6CAA-2607-41BB-BDE7-C519EF959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9F80-1885-43A1-85AA-DA80300DB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DE41-0965-427A-902D-1E8C45E6A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BA39-0037-4094-B5D9-B962D939E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E70F-23CE-435A-9893-AB0AD309F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FF0A-4A8B-4876-B578-2F49D527F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70FA-CB06-41B1-A64A-7853C1782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06EC-C1F3-4AE3-BD84-EC7F0B2DA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0413-2B8E-48E8-A916-B172008C2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A45C-B40F-4991-B979-334ACC84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7F6B-DF28-4894-BAD0-E363B5DB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D459-F318-4EF0-AF9C-F833B6BC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41EE95-CD10-4958-B835-C9A6E3685EC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