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15625"/>
        <c:axId val="51443918"/>
      </c:barChart>
      <c:catAx>
        <c:axId val="309156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43918"/>
        <c:crosses val="autoZero"/>
        <c:auto val="1"/>
        <c:lblAlgn val="ctr"/>
        <c:lblOffset val="100"/>
        <c:noMultiLvlLbl val="0"/>
      </c:catAx>
      <c:valAx>
        <c:axId val="514439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156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B46-5CBB-45BF-B005-3DBD22D0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2CE-3698-445D-871A-409F2123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5A3-5E26-444C-8023-FD63219F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A15-1B9E-4B7C-8446-32E33984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C7F-AD5B-40CF-98F3-F08847DB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EAB-C338-476E-AADA-6EAE0321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5E2-7FDE-4039-A611-DC282AE9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028-0C55-4194-B7D0-A3ECF2FE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638-D83C-4B40-92D5-40584CB0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9E7F-D494-4FC2-B6A3-23E29266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F8D-8738-4E10-821E-34248CA3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BBF8-C53F-42C7-899F-DF3E1DCA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E88BD-BD45-476D-90B0-8EAACB7D4E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