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255807"/>
        <c:axId val="52901379"/>
      </c:barChart>
      <c:catAx>
        <c:axId val="432558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01379"/>
        <c:crosses val="autoZero"/>
        <c:auto val="1"/>
        <c:lblAlgn val="ctr"/>
        <c:lblOffset val="100"/>
        <c:noMultiLvlLbl val="0"/>
      </c:catAx>
      <c:valAx>
        <c:axId val="529013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558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E19D-6030-4ADF-9BA5-A549C3F5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4128-CC16-4170-BFF7-108895F1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6CEA-0466-482E-A67B-F1DFEF94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49E3-8983-47C0-ACED-5E144984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35DC-FDD2-4916-8825-8C9B73CA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BA78-A7C0-4AB7-9B7A-E5B82731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7B26-1331-4A15-9BA7-4C92C0EE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D16A-097D-4286-BD78-53032CAA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A3D1-787E-4058-8B37-86717E46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0619-7492-4742-AAB2-6C38F6B1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77CE-C0D8-4C36-BFB4-4EBB2B51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4E32-E246-4958-BA1C-3915A2FC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809F1-3ABE-4F42-B2B5-EF873DDB30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