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46719"/>
        <c:axId val="2435805"/>
      </c:barChart>
      <c:catAx>
        <c:axId val="5654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805"/>
        <c:crosses val="autoZero"/>
        <c:auto val="1"/>
        <c:lblAlgn val="ctr"/>
        <c:lblOffset val="100"/>
        <c:noMultiLvlLbl val="0"/>
      </c:catAx>
      <c:valAx>
        <c:axId val="2435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4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CB9-E5B0-4F0F-B54F-5DD04851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009-08A4-49F5-A8B8-E3F1324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FF4-E2FD-4C73-9C91-5ED484C0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05B-8EC0-4D0E-8DF5-F6F2EBC9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245-FAA3-4228-9740-577F651B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9CB-19F4-4ECE-8855-22E3DB2A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3F2-FBD4-4866-A346-592F5B4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B44-4CDE-478E-B457-6A77F0D2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9F9-7545-4FC2-82C6-99FB974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5A0-ACD1-4758-A425-23C0874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735-E199-475A-9E4A-1EEDE56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6A2-60D7-4C29-864F-45A9EA6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6038-62A0-4BDF-988A-D3E44C4B62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