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01516"/>
        <c:axId val="9111153"/>
      </c:barChart>
      <c:catAx>
        <c:axId val="71501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153"/>
        <c:crosses val="autoZero"/>
        <c:auto val="1"/>
        <c:lblAlgn val="ctr"/>
        <c:lblOffset val="100"/>
        <c:noMultiLvlLbl val="0"/>
      </c:catAx>
      <c:valAx>
        <c:axId val="9111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1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6F5-3715-4FC9-93A4-8083446D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4F6-236B-4FCA-ABCA-088EC123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B20-D41D-4FA8-A816-5965E012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531-0787-4E6B-91B9-24DB351B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E46-73F8-40BE-9E14-05CD4AEB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36F-3810-413E-A367-30192ED1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F45-3ED5-40D0-A9BD-0D5CC5BA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EC8-F55B-4716-837B-3ACA2E92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960-FB3B-424E-BAB6-B108C0D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633-3B99-4A53-B84A-F2244FB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278-097E-4082-A38D-6558B4A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FD6-9904-436D-B9DC-7D0CAD3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018DF-C80D-4007-86FC-F9E6FB698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