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67560"/>
        <c:axId val="69081789"/>
      </c:barChart>
      <c:catAx>
        <c:axId val="82767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81789"/>
        <c:crosses val="autoZero"/>
        <c:auto val="1"/>
        <c:lblAlgn val="ctr"/>
        <c:lblOffset val="100"/>
        <c:noMultiLvlLbl val="0"/>
      </c:catAx>
      <c:valAx>
        <c:axId val="69081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67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41D-A650-46B3-A974-FED1166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EE6-C8D3-479F-A48A-4BE8936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9A1-431B-4128-855C-586ADD81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EBF-55B2-4CC8-B35E-569C9D6F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ADC-8AF4-4FC9-850E-1288512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322-65AD-4185-A220-C948C330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E8C-F1F2-420D-8A83-6AA25E56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4A2-4B4B-47E5-B444-713D6C7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919-E503-44B1-9EC8-CA26970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8F0-CBB0-4AC8-83D4-20E295E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102-9468-45EE-AF58-CC2C22C5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63A-615B-4086-B673-BC211E1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E0DB6-B986-4317-833B-B046A16481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