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71460"/>
        <c:axId val="45715908"/>
      </c:barChart>
      <c:catAx>
        <c:axId val="539714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15908"/>
        <c:crosses val="autoZero"/>
        <c:auto val="1"/>
        <c:lblAlgn val="ctr"/>
        <c:lblOffset val="100"/>
        <c:noMultiLvlLbl val="0"/>
      </c:catAx>
      <c:valAx>
        <c:axId val="45715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714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A3A-CE94-4604-AA1B-C686F9CB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E50-C2DC-46A9-BB01-62A79542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C3D-3719-4A22-8235-C601387F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B385-DEFC-462E-B0AA-ABC81036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AAD-338E-4DB8-8B37-21DA1850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485-0E65-47F8-9338-1A91F5DF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D064-E5AE-4440-978B-6B9380A0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B39-16A7-4AD0-A5F1-3A9A3F64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4FA-2A4D-42B7-AAB6-F29049A9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C10-5EF5-4CB0-B167-A51C7D22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4220-FC9E-44AC-86ED-423FE924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945-D0DB-4F9D-9C17-90EA894E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9F02B-CC8F-46C1-A47B-7989A2BD60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