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4835"/>
        <c:axId val="41449085"/>
      </c:barChart>
      <c:catAx>
        <c:axId val="9334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49085"/>
        <c:crosses val="autoZero"/>
        <c:auto val="1"/>
        <c:lblAlgn val="ctr"/>
        <c:lblOffset val="100"/>
        <c:noMultiLvlLbl val="0"/>
      </c:catAx>
      <c:valAx>
        <c:axId val="41449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4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211-4257-4C72-87FF-D61CEF0E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274-18F8-4FE1-8E06-4587F432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E8A-984C-4098-A7C5-E335F8DF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0B9-A463-4AF3-89DE-2DB0ADDE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DD9-8E8A-4827-B7A9-1962AFC6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F29-ADA3-4A21-B110-122DF350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C54-881B-4965-9918-DDF0A42D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F35-73A0-4C84-B055-4834E86E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C53-E2A0-4070-8157-4CA13859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564-5AE4-495D-8E1F-00FB04C9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160-C7AD-41DD-A568-B34E25A6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F6A-662F-4009-ACDD-EC7A1C8A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10945-3E0F-460A-8176-FA6ED1DAC3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